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9447-92ED-4827-BD95-7030C3176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CAAD-8753-40B9-BFD3-02BF55BAC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A37E-F1D1-482D-9A54-1B608ACE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4739-A8C1-44C3-AE97-8C549D99A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EE4B-AA27-4A38-9D77-C2E0F0040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C2DC-F491-4D05-B305-AA5467B6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012-6FDA-4E9F-A9AA-433E97F9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22B-EE72-4B42-8F08-88B3C4AF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D365-D628-4396-8D50-02E5D0CE9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9028-92F0-4085-A393-13F54A93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D7E-4427-4A01-82DF-0948C1EA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6246-1C95-414D-ABF6-3AB75ECFE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47C2-4929-4645-A685-D891AB91C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198360"/>
            <a:ext cx="8300880" cy="873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7 И 2018-202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24000" y="1135080"/>
          <a:ext cx="4667040" cy="57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135080"/>
                    <a:ext cx="4667040" cy="57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219640" y="1138320"/>
          <a:ext cx="3456000" cy="5640480"/>
        </p:xfrm>
        <a:graphic>
          <a:graphicData uri="http://schemas.openxmlformats.org/drawingml/2006/table">
            <a:tbl>
              <a:tblPr/>
              <a:tblGrid>
                <a:gridCol w="1584000"/>
                <a:gridCol w="1872000"/>
              </a:tblGrid>
              <a:tr h="781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11937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9999"/>
                    </a:solidFill>
                  </a:tcPr>
                </a:tc>
              </a:tr>
              <a:tr h="13629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80503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(млн.руб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12920" y="838080"/>
          <a:ext cx="8426160" cy="7796160"/>
        </p:xfrm>
        <a:graphic>
          <a:graphicData uri="http://schemas.openxmlformats.org/drawingml/2006/table">
            <a:tbl>
              <a:tblPr/>
              <a:tblGrid>
                <a:gridCol w="3960720"/>
                <a:gridCol w="1224000"/>
                <a:gridCol w="934920"/>
                <a:gridCol w="793800"/>
                <a:gridCol w="792000"/>
                <a:gridCol w="720720"/>
              </a:tblGrid>
              <a:tr h="289800"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7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8г к 2017г (%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9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0г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, всего,в том числ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9,7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1,4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,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на поддержку мер по обеспечению сбалансированности бюджето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8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6,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федеральных целевых програм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сидии бюджетам на реализацию мероприятий и на поддержку государственных программ Российской Федерации, и пр. субсид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2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3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5,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,5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8218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4,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7,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беспечение обучающихся в младших классах (1-4 включительно) бесплатным пит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,4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,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,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393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6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5684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жбюджетные трансферты на восстановление автомобильных дорог и мо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,7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1T07:43:3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